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2BE0-8BA8-4180-86C9-ACBFA9CB9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AF68-77AA-48A8-B9DC-D48AF973F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 of shaken baby timing mirrors the crying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ED51-852E-475B-AF6A-624C05D8C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ong-term affects – conflicting data re. temperament and sleep, more difficult toddlers?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collic does not influence long term cognitive develo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A2AC-0D91-45D3-8C37-5AD1F4FDA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4F2C-75CE-41DD-B59B-674AAE89D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bicarb not recc &lt;5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5011-1243-48E9-9274-45851EDAD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ning infant in day and night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hrough a comlete sleep cycle about every 50-60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1496-672E-4895-8E58-5F3059DF6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AFF8-F144-4A73-89DB-8D75251F3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r babies may develop a habit of feeding to get back to sl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ime in lighter stages of sleep and sless deep sl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AC87-BA8F-4FC8-A0BB-5509A3565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parents feel it’s important to get baby settled by 12 weeks – structured care. Point is to prevent slleping problem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5029-5019-4E91-86BD-5E73CED38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84B3-DF80-4223-A356-42BB18DF6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ants deaths in adult beds – ¼ by overlying adults, ¾ entra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ED19-7C4A-499B-A02C-FA92A9F69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supported, &gt;15 studies since 19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8FE8-E309-4A94-AAF7-A752BE836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25B2-3F7F-468F-BE1E-5D2E0E597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mentally difficult or irritable infants more likely to survive famine than more placid b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uration of cerebral cortex, newborn reflexes, e.g.. Palmar grasp, disappear, start smiling, have a recognition mem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robehavioral shift at 2 months changes in several systems e.g.. Attention, sensory, in social abilities, and in EEG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C486-BB2F-4AA0-91C9-1ADC65C45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CC1F-2769-4C82-A185-DA7A61328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osry overload by the end of the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E4B6-4C98-4A1F-9FD0-3331A9CC5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FDEE-4862-4626-A681-58F542FA5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-4 % of infants with sx of colic have GERD                 subacute sx of drug withdrawl can last 4-6 mon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5EFB-29E3-4635-AF44-F28102027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some babies improved on hypoallergenic formula esp. if other signs of intolerance like emesis, diarrhea, eczm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tudies found a benefit from soy formula but not adequately double blinded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– no diff when breath hydrogen compared., or b/tw babies given decreased lactose or give lactase enzyme, plus no benefit with simethic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8716-D5A8-479C-A0B2-0BB3F9B12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don, copenhagen, proximal care – london 50%  less contact, d/c BR earllier, london group fussed/cried 50% more at 10 days and at 5 wee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9F2C-EED9-4F9C-A398-239D52D86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995-B271-46C6-9BD6-7D59E496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D8D7-99A6-4839-90FC-0B0679CE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380-FAC0-4289-B8C1-585CDF58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5132-0608-4388-9FCA-AD4B6039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1B3B-8E54-465C-AAAC-43361B38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1950-812D-4C4B-9B11-2A5AD4AA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CB75-B498-49FC-B8D3-B1D4DCB6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79E0-F862-4AC9-8CDD-EA0A1C20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3CC0-F5C4-42A5-B1C9-2CBBBE33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F812-7613-4672-9C24-16023733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FF58-E5D5-40E7-9C0F-19D1766B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DD4-580C-443D-A899-08DCB35E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FFAD-88B3-4C97-9AC9-15C168B4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7683-4CD3-43B5-BCC4-B16B18AA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E7D6-4361-4029-9F11-48028CBF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92F5-2BC9-4BA1-9DE9-E37BBF7E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BC96-59E8-41A9-AB14-17F1C298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FB768-7FCA-455C-8125-A0E2DC66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7211A-3A08-461E-823F-A3AAF18E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AA8CA-7CF6-408C-994E-123C7939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AA725-4B2D-4F00-81C1-7720F2D9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C5460-5FC0-4575-8998-801D4909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391-1801-4B10-A9BF-A183B511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4CB88-1612-471F-9F8C-35E2C195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8F7D6-0686-4AC2-B1BA-B733F93E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75BB0-2F66-4F6B-82D6-245ABDBC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6D209-0F68-4539-BBFE-948CC4B5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179D4-DAD3-4EFA-9697-F5DC0840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C88D7-007C-496A-BC28-6B99E9D6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CEFDF-7526-4B9C-9A7B-317DC14C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20B12-A056-4D7B-88BB-904CBCBB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5738A-9D22-4798-A27E-34406E87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C60E9-47BE-46DB-85EA-929F63AC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86B-4771-4FCB-86C6-E76D5910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0342F-8234-4147-8713-4F2A090C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4F5BD-22B2-4283-92B7-1F7FF2C2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752CF-648A-4582-B1D1-31DEE0C2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333B0-61F7-40D8-B4BC-77C6AEA9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41B7B-E054-4556-ACA8-040EB1D4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742F2-93E9-49D4-8BC8-8A1AC2C2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5E781-AEFF-4664-86E3-5C61465C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6455A-5839-410A-A8C4-23FEC98E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C1228-EDC9-420C-B643-B4F31370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384AB-3BD4-47B0-BD3D-3A5B1734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2D5-0FC8-48B1-885C-F0598231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8926B-AA05-49DE-9EFA-C4CBD515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452A8-5E9F-4275-9D1C-4F754E8A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95C11-632D-4155-B2CA-E2426494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27AF7-4CCD-460B-A9CB-BC819635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7F5F5-27D8-4F5F-8E40-45014564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A0F84-74FA-4B69-A46A-13578917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7641F-20D9-4E42-82A2-8BBB6420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F491A-3E33-4641-B0E6-75DBC72E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96671-5808-43AD-8D20-0D03CAB0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905A6-9B5D-482C-B39C-E3E17FFB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058-EDF1-43F2-9DA5-C986BBCE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FDE6D-7EAB-4FA2-9144-9C330BA9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F6608-2C6F-4C8E-AF75-D29344E9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01BBC-08D6-458B-B1A0-DD8C2077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9C52A-3335-47C7-BF58-AC25346E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C3D00-E8BA-4D54-BFBF-A75F9147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9E1AC-6AE6-42E1-96C7-5203CB55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31AF5-9BC1-4498-9072-7CF764F5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D221F-6342-4147-AF1F-953B7C19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158A9-3531-4E8D-871F-E2E22416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22A59-9BCB-45F8-A1D7-F61DBE68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C0F-1BE7-4226-9BF2-682EE59F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96B67-3911-4DAD-B458-CC342B06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9E462-874F-4545-B6A9-03FB5A5C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47345-F877-4AE1-B728-21B985C6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F886F-E3BC-4ACD-AD4B-70CE7235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DB858-B608-48DA-8C62-3DBBB253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EB57B-061F-41B7-940F-9A5BDCBC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4FC92-121C-4C39-904A-CF74FAE3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7E38E-DA2E-4F58-842A-E78F10A0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D08E4-7AA6-4BF2-AC05-434F74D1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3F530-C203-4552-A95F-F84ECEE7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FCC-B7B0-4BE0-BDDC-039AA6CD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86BD6-A05E-4C94-9807-81062EC6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E4032-CBF5-4EB8-90D2-B8FEEEBC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653AA-5DE1-444F-8E2C-3736F247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BEA6A-383F-4F6A-97FC-8B4CC1AC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53218-0ED6-4CFE-8DCF-861BCC50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C9D1C-12DE-4145-A8F2-1BE09AC7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F88A7-92E2-4FFE-98F0-E26444DC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18055-9044-4153-AC2A-55E3D975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AF1A0-7B47-4EFA-872F-B0796559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146A0-A56B-411D-ADB9-124BCE3C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4E9-8722-444C-8B4E-48FA1007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C5466-601B-42F0-9E9F-3B4D482F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8057E-7976-4B4C-97AE-7F212A00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54386-6D8F-4356-9323-86AB8658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5D920-9268-4F63-A499-158812BB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55027-01A9-4B9D-B86F-153D8504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A6ADC-866D-43C9-8764-097654FB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DFA85-9EDB-402E-B2D9-EBEE993E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958E-6C82-4DBD-B74B-7A6A96BB543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A2FF-EF0C-4919-8991-55FC2DEA37F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56B6-8018-4928-86C8-89D7EEC3897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42D9-BD2B-4E1A-BD94-89392E095D1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6145-2777-48FB-9E2E-72BBBC2FA3F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B3C4-5DE4-451A-9EEC-F9D88F70B96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8D63-C26E-49AB-BF58-EFD89306C90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BBF4-B29D-48CD-995C-3868775D0F5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July 27, 200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mtiaz Gho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fect on parents – feel helpless, inadequate, rejec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contribute to maternal depres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longed crying may trigger shaken baby syndrome/other ab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ents of &gt;3000 infants gave anonymous responses in a questionnaire;  2.2% of parents of 1 month olds and 3.7% of parents of 3 month olds reported having smothered, slapped, or shaken their baby at least once because of cry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arental support and education –acknowledge, reassure, offer tips on soothing, absolve guilt, recommend time-out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Role for diet changes in small percentage so may be worth a tr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imethicone not shown to helpful; antispasmodics have adverse effects (apnea, seizures, coma) and contraindicated in infants &lt; 6 month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ranial osteopathy – no randomized controlled trials. One small study showed decreased crying and improved sleeping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ennel seed oil –  one randomized controlled study showed benefit and no adverse effects BUT fennel oil can cause allergic reactions of skin and repieiratory tract and has been reported to cause seizu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rbal blends – teas containing fennel, chamomile, vervain, licorice, and lemon balm have been studied and shown be effective but the volume the infants took concerning ( 5 oz. TID) b/c may affect milk inta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ripe water – mixture of herbs; warn that some varieties have been found to contain dangerous ingredients, including glass particles and alcohol. Also watch for sodium bicarbonate and essential oil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olocynthis – found in Hyland’s colic tablets – not proven to effective but unlikely to cause har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oothing techniques – overall 24 hour amounts of crying substantially reduced with more physical contact and increased responsivenes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6 hours at 1month, decreases to 14 hours by 1 year, 13 hours by age 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uring first 3 months infants go from a pattern of short sleep-wake cycles about evenly distributed throughout the day and night to consolidating sleep into longer periods at n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spend about 50% of sleep time in REM sleep, adults spend about 20% in REM slee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active/deep sleep cycles last about 50 minutes; adults about 90 minu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leeping through the night”–most babies by 12 weeks; actually still awakening several times during the night but most infants learn to resettle. About 1/3 of babies don’t resettle and “signal” their par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0% sleeping all night by 6 months and 90% by 12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east fed babies continue to need a feeding between midnight and 6 am for longer than bottle-fed bab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uld not need to feed during the night after 6 months (can go about 6-8 hour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tling babies while awake- sleep onset associations. “tired cues” before overtir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time routine/environ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earest evidence is that structured care leads to infants developing the ability to remain settle at night by 12 wee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uctured” parenting – start training at 6 weeks. 1. maximize diff. b/tw daytime and nighttime sleep environments. 2. settle baby while awake. 3. once baby at least 3 weeks old, healthy, gaining weight well, can begin to delay feeding when baby wakes at night – cuddle,, change diaper, etc.. Not leaving baby to c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-demand care – leads to lower amounts overall fussing and crying in the first 2 months but to waking and signaling at night that continues at and beyond 3 month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a problem if parents don’t think it’s a problem. No evidence that babies who wake and cry at 3 months will have long term probl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ts of different ideas on getting babies to sleep; individualize plan based on family’s needs and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ither parenting approach better overall, each is associated with different benefits and cos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penhagen parents’ care was as effective as proximal care in minimizing crying and as effective as London care in enabling infants to remain settled by 12 wee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DS preven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-sleeping precau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have a normal crying curve during the first 3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aks at ~6 weeks and decreases by about 12 wee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verages 2 hr/day at 2 weeks, 3 hrs at 6 weeks, and 1 hr/day at 12 wee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ue across cultures and preemies show the same pattern, peaking at 6 weeks after their expected due 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838080" y="205740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rental support and education are ke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gna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tachment behavior – assures nutrition, protection, maternal intera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p to a point, infants who cry more get more maternal atten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organization of brain systems occurring around 8-12 weeks, reflexive systems replaced by cortical control of behavi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soothability related to a temporary deficit in responsivity, so have difficulty in stopping crying once it sta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widely used definition is: &gt; 3 hours a day, &gt; 3 days a week, &gt;3 weeks in a row (i.e.. rule of 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fecting an otherwise healthy, well-fed inf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s range from 2 – 20% of bab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gnosis of exclu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theories, often thought to be due to g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sed on current evidence infants who have colic are at the high end of a normal spectrum of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ign, self limited. 50% resolve by 2 months, 80% by 3 months, 90% by 4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dden, unpredictable ons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longed episodic bou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urnal – evening pea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fficult to conso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imes physical signs –clenched fists, red face, legs drawn up, distended abd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sts beyond 4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inuous irritability/lack of diurnal rhyth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 symptoms (FTT, vomiting, diarrhea, etc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itive physical exam –  including eyes, long bones, neuro, CV, GI assess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itive family history of asthma, atopy, eczema, migra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ternal drug inges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lthough food intolerance and other organic causes can cause prolonged crying, these factors absent in 90% of case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ost common organic causes suspected are GERD and food allergies, but the evidence is equivocal and a factor in only a small grou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rge study comparing BFing mothers on low allergen diet vs. those not, showed no difference in proportions of colicy infant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ctose intolerance – no good supportive eviden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tudies have shown parental counseling more effective than diet change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oss-cultural studies comparing parenting and infant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gh amounts of body contact and responsive parenting associated with lower amounts of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rying curve and frequency of crying is similar but the length of the bouts are reduced substanti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1:41:10Z</dcterms:created>
  <dc:creator>Raj Dasari</dc:creator>
  <dc:description/>
  <dc:language>en-US</dc:language>
  <cp:lastModifiedBy>HCMARTINEZ</cp:lastModifiedBy>
  <dcterms:modified xsi:type="dcterms:W3CDTF">2009-07-27T19:06:06Z</dcterms:modified>
  <cp:revision>63</cp:revision>
  <dc:subject/>
  <dc:title>Colic and Infant sleep problems</dc:title>
</cp:coreProperties>
</file>